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96028EEA-9DD8-4466-802C-B302EFEC00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i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smaspäeval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isipäeval: erinevad teemad / kursuste ülevaated / õppejõud, kohati eksamil kajastatud, kohati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idid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nu manifes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odcast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lexfridman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.I. Podca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www.preposterousuniverse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Mindsca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09-03T08:37:19Z</dcterms:modified>
  <cp:revision>35</cp:revision>
  <dc:subject/>
  <dc:title> </dc:title>
</cp:coreProperties>
</file>